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ACF80-C6FD-4C97-9FA5-316AA746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15079-EC44-4408-8A36-720AA675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FE2DE-F155-40ED-9E32-20970041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F6A1D-F000-4507-BA6A-B67A78A8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1427-1D9E-4B67-8220-65C3FFCE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7301-F784-4A27-A5C0-3D303438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CCA6-84E6-4798-8833-6A63C26A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D7D8-5AF4-4414-923D-FDB22559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7AB3-DC74-4B43-A951-B7EC6BC8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FCBA-79C2-4B9A-8076-9BBB7BFC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A5EA-6EAB-40E6-8B6C-CAACD971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88DC9-9980-4EE0-AF7A-311FBF1B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2FD4-A478-4613-9C6C-D11147DE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AC13-868A-4968-A647-20202AFB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56D4-7ED8-48F2-8186-144CE17B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ECDC-5293-4849-98F6-ACFBC409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9D4B-B86C-49A5-B975-78761C0D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63000-27CD-4CB8-80F8-2D4985FF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4BED3-3FBE-42B2-BEED-B9F5F622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DA6C3-175E-4902-A85E-10B9E9FB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C14D3-49EB-4384-9F60-60070B0D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25837-984C-4E4D-BD48-2543FD62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95986-C0AC-4199-9C2A-3489701D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90D81-DA59-4F62-9C0D-FA88FF16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7A63-93A4-4C85-BB7F-A829C3B848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E3AE-2369-4632-A909-6E6FB24459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 u="sng">
                <a:solidFill>
                  <a:srgbClr val="00007d"/>
                </a:solidFill>
                <a:uFillTx/>
                <a:latin typeface="Arial"/>
              </a:rPr>
              <a:t>Тема урока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743200" y="236232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ачните работу с нажатия кнопки Пу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3429000" cy="954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18800" y="4568760"/>
            <a:ext cx="3728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 информатике и И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ля 5-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0080"/>
                </a:solidFill>
                <a:uFillTx/>
                <a:latin typeface="Arial"/>
              </a:rPr>
              <a:t>Соста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улова Светла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ГБОУ СОШ № 2031, г.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Практическая работа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«Запуск стандартных программ из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Главного меню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Запустите программу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тобы запустить стандартную програм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ведите указатель мыши на кнопку Пуск на Панели задач и щелкните левой кноп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мыши к пункту Программы – откроется вложенное меню с перечнем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к пункту Стандартные – появится вновь вложенное меню с перечнем стандартных , часто используемых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нужную программу Блокнот, и выберите ее щелчком левой кнопки мы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ус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5791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5791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тандар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5791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218BD-1E71-4C3A-9578-D5BD187DD9C3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. Запустите стандартную программу Калькулятор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1143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1295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114300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1295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143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Стандар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1295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1143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6765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marL="106200" indent="-106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. Завершение работы с програм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Калькуля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появлении окна сохранения документа, нажмите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518148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85294-28FC-4663-8661-70AB8D9D806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Итоги урока и Д/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акую тему рассматрив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нового вы 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ему научили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вам больше всего понравило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/З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5 и определения вы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3276720" cy="238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848BE-280B-401E-8214-B1F3F8237B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910120" y="3200400"/>
            <a:ext cx="3233880" cy="2809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 с назначением и функциями Главного мен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воить запуск программ через Главное мен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F6881-541A-450E-AD96-146AEFA0263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19360" y="198072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ение нов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реп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тоги урока и д/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35412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713AA-7400-4D16-8B29-A1C6E9C820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4619520" cy="30672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1. Повт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520" y="10663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бочий сто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Рабочем стол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анели зада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Мен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вы знаете о кнопке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ус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683C0-7EC1-4F58-8670-574D233429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2. Изучение нового матери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00600" y="2666880"/>
            <a:ext cx="3733920" cy="1040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нопка Пуск располагается на Панели задач в левом нижнем уг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200400"/>
            <a:ext cx="4495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ие действия начинаются с нажатия кнопки Пу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3600" y="38098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830A8-322E-4518-9ADA-B231E0DCEB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46720" y="228600"/>
            <a:ext cx="3797280" cy="5605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4495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Щелкнув по кнопке Пуск откроется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971800"/>
            <a:ext cx="304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657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886200"/>
            <a:ext cx="449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этого меню можно вызвать различные программы. При помощи программ создаются документы: тексты, рисунки,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79502-0C06-40CD-9D1C-1FD4242BCB1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3733560" cy="5867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44960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 пункте меню справа расположен значок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ит этот пункт является заголовком еще одного ме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687240" cy="718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2971800" y="2514600"/>
            <a:ext cx="5562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3048120"/>
            <a:ext cx="3429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124080"/>
            <a:ext cx="3962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3200400"/>
            <a:ext cx="4267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6D485-5A31-40FB-A337-9B869CD62F6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8077320" cy="44085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го содержимое появляется при выделении этого пункта. Такие меню называют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вложен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скрытыми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Глав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371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Вложен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89548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343040" y="1752480"/>
            <a:ext cx="2514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934320" y="175248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1828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A4F7E-F318-459E-ADA1-C4BFDA4E576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174920" cy="6095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0492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оме того, кнопка Пуск позволяет грамотно завершить работу на компьютере, выбрав команд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вершение рабо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B26A3-ED6F-46A0-84E6-C317D28969D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</cp:lastModifiedBy>
  <dcterms:modified xsi:type="dcterms:W3CDTF">2012-04-13T07:39:0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